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5DA-9766-42BB-AC30-289BC40B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F12C-A470-43B5-8EAA-A5B32A0C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552-3CB4-4023-A571-0924ED32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B23-8990-44D7-B3C1-614E9243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6784-7327-416E-806E-2F61EA85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D8D0-B317-4EC2-82E7-4ED36DA8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3A54-414E-4305-9EF8-4511AE07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DACB-A0F9-4382-95EF-A2835616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936F-15E3-42C8-B9C1-EE259655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A85F-C27C-43A1-8FA2-8BD417CA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9D2F-6523-4D46-A7E3-6F71AF4B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12D-393A-485B-A7C9-A5432FA6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3507-0215-4CBF-886A-0AD5B72D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EC9F-B258-4D87-A67D-B7A3BFC5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B1B1-0FC7-48ED-B8A4-0DA1AE67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CE6B-E4C7-4E61-8AE2-329AE107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E2D2-177F-4792-B0E0-6370462F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462-073B-4B96-9A9D-D474F5B1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CF6-6E03-41A4-AD55-684A6D55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1DE-2D7D-4320-A484-785650F8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297-BFCA-49A5-8E7C-DFA5779B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CB8-1ED1-455D-A055-5C7335C1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7A2-157D-4701-9352-E5765724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38D-168E-46B3-BA67-58EBEE81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332E-5EBB-45E5-9538-37387BBEC2F6}" type="datetime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6B62-C971-4F03-B8C6-1806FC9C91BA}" type="slidenum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50C2-7CA7-4CC9-BD09-94BE404C9273}" type="datetime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9DD8-9982-43CC-9B10-06CABE149CF7}" type="slidenum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Team Lefthook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Michelle Williams-Da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Lu Y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Ali As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9DF8-9859-44CE-9506-0729B1B221D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F54DB3-D9B8-4FD3-898C-8608C49094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 #4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4. The patients and parents are not given information about the future care delivery and a feeling of an inability to control surroundings is fel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2E9-EA10-40FE-B89B-7C6DA8E74C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3B5B3-F87D-4FDF-9250-AFD01D9DDE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4: Children’s Hospital of 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800 visits recor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25% dissatisf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Lack of warmth and friendl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Failure to address patient conc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Explanation of diagnosis and causation of il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Use of medical “jarg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7C7-0B23-40F8-9CF6-78CAF40F66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62F42-1964-4E42-A112-AA95748AAB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 #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The hospital environment is not conducive to the healing process.  Multiple problems exist from the state of rooms, to the lack of activ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A94-36A7-4CCD-B636-0C31A1E567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A2F41-B073-4876-BC1F-FFC3D5F66D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www.canerworld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EH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Display of ar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Opportunity to retr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Access to fresh air and natural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EE3-DC4E-4DB7-A12E-ED5776B5F3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E52A5-8E8C-471F-B0D1-8EB095502C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 #6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The families of the patients accompany the patient to the hospital which leads to a larger number of visitors and personal items in the hosp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The siblings of the patients feel worried and confined within the hospit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The overall mental health of the patients with chronic diseases needs to be acknowledg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BC1-1155-4EBF-A73A-F140E58598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8F1B0-A072-4759-83B6-93E44E59EE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6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Tyler’s Place and Sibling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American Family Children’s Hosp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Alberta Children’s Hosp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0" r="0" b="33345"/>
          <a:stretch/>
        </p:blipFill>
        <p:spPr>
          <a:xfrm>
            <a:off x="5181480" y="2286000"/>
            <a:ext cx="3148200" cy="3200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2886120" cy="12654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58E-98F7-4674-A937-ADCE2471C4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6DDF9-CA51-4788-A55E-18B0682961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6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Positive Imaging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American Family Children’s Hosp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Application to the three centers of excell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Pet Ther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374920" cy="2819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075-E50B-43EC-AA0B-0E2E54DEE49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BF053-0B56-42F5-B690-91C861245A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Question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9C3-A943-40EA-A34D-B646FFCF8D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DB92F-7337-40F8-8104-8D6B8BE3CC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inciples (1-3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1. Provide transparency of the environment and processes to all ages of us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2. Insure flexibility in design to create an ageless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3. Promote a soothing family and patient friendly enviro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B3B-FD1D-4344-A9F4-5D453F3D84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03893-3EC0-4AE8-8F8E-94277FC6CF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inciples (4-5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4. Ensure commitment to education, research and community service as a means of discovering new and better methods to meet the unique health care needs of children within the three centers of excell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宋体"/>
              </a:rPr>
              <a:t>5. Provide health care of children and families in a healing environment that emphasizes their quality of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631-5352-4722-93AD-64CA29B2EC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F844C-0D98-439B-87C3-FD7B026179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 #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The emergency department has a complicated floor pla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The visibility is limited by many turns and narrow corrid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30600" y="411156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14400" y="411156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373800" y="4113360"/>
            <a:ext cx="2541600" cy="190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23A-AD96-464C-9AD8-09562F5779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C6F60-A308-4A26-A7B1-BE69A2A86B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1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  <a:ea typeface="宋体"/>
              </a:rPr>
              <a:t>the influence of </a:t>
            </a: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complexity of floor plan configuration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sman (197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d complexity of floor plan configu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&gt;reported wayfinding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173 subjects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35268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ACE-2C8B-4116-A980-53904A60C2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208AB-0624-4946-8B9B-7D784BDBC6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1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  <a:ea typeface="宋体"/>
              </a:rPr>
              <a:t>the influence of </a:t>
            </a: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complexity of floor plan configuration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3886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'Neill, (199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-Connection Density, the average number of connections per choice in a floor pl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&gt;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) time to locate the destination and (2) number of wrong turns m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63 subjects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40C-BDB8-4FFD-9B44-F5F9A9887A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96D04-1282-4B30-A3ED-BD55713470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Problems #2 &amp; #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2. Design company proposes to use single entrance for different departme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宋体"/>
              </a:rPr>
              <a:t>3. The entire hospital will move into the new site in one weekend and still remain operation. It may cause lots of wayfinding problems to staff memb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C4A-85F4-4AFB-BBE3-7CFDF74361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D8F8B-6984-4096-86B6-4A9A0019CA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imilar spatial performance for people navig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real-world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equivalent virtual enviro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ansen-Osmann, P., &amp; Wiedenbauer, G. (2004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Ruddle, R. A., &amp; Lessells, S. (200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DE4-8BCC-4F35-99BD-ACD7487A30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58828-41EF-433B-96C5-7CFB5DB634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宋体"/>
              </a:rPr>
              <a:t>Evidence #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People with virtual environme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training outperform people without train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Hunt, M. E. (198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Foreman, N., et al, (200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WD, AA, 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D9E-C7FB-476C-A030-9301A92211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E7559-CF6E-4938-B015-1101F1792F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2:05:42Z</dcterms:created>
  <dc:creator>Ron Davis</dc:creator>
  <dc:description/>
  <cp:keywords/>
  <dc:language>en-US</dc:language>
  <cp:lastModifiedBy>Lu, Yi</cp:lastModifiedBy>
  <dcterms:modified xsi:type="dcterms:W3CDTF">2007-10-04T16:59:41Z</dcterms:modified>
  <cp:revision>8</cp:revision>
  <dc:subject/>
  <dc:title>Team Lefthook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921033</vt:lpwstr>
  </property>
</Properties>
</file>